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8AA77-FA2B-40B5-B7FC-B7A05AA7BF84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07B7C-7838-4FBB-B443-4178FE6D5308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60B6-69F2-4E2D-9240-64AE8021B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E059-02E3-42F6-96B0-F576BC5A7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A715-896D-4051-A5A6-ED1508406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F367-4D52-483F-A173-972E4FC15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AE9B-559E-4133-9768-4ADEB646D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F5A7-515D-43A2-96B9-2AA1D22CD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2B29-96AB-48D3-AC56-0E2DB4B63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90FA-5BC9-48B5-B099-3BD66DB0A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DBC8-B207-48F0-90DA-18DAC07B9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B199-AC05-483D-9B5D-7DC5ABBBD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1DCD-7BC6-48E0-86D4-438258973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D607-00C8-4540-90A7-04B7A1475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3702A-9D7E-4D01-947F-DBAE86A3C946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남대학교의료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해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승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9.01.28 ~ 2.20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2" name="Picture 5" descr="map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반 버스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-1, 410, 410-1, 405, 452, 503, 604, 805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달서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 65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영대병원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구광역시 남구 대명동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17-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연락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53-623-8001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넥타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검정색 종류의 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히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격주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,0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재활치료 분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FES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7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&amp; topic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있을수도 없을수도 있으며 일정에 따라 달라진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보통 짧으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길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정도 소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시로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일지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art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별로 틀리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마지막주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안할 수 도 있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54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 외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6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위주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NF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흡운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bobath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-284400">
              <a:lnSpc>
                <a:spcPct val="2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modality, manua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환자 우선으로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4572000" y="1447920"/>
            <a:ext cx="347652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FES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FES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치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스트레칭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ROM, FES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종합병원급의 시스템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참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낙후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 시간 때 쉴 공간이 없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에는 밥이 맛없었다고 하나 그냥 그럭저럭 먹을만 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 말고는 계속 서 있어야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분야로 나뉘어 있어서 모든 분야를 경험 할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대병원으로 오세용 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ㅁ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44Z</dcterms:modified>
  <cp:revision>11</cp:revision>
  <dc:subject/>
  <dc:title>영남대학교의료원</dc:title>
</cp:coreProperties>
</file>